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8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9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0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0974-8495-4F07-A8EA-F459DA1DF6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48040" y="937728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4874F7B-DF60-4C42-94B8-41CF455BA6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7000" y="73656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2560" y="4692240"/>
            <a:ext cx="543240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6225-F7FF-4AAA-B1D2-1CC47CEEBB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7ED-C97F-4F79-8755-A1D1ACB1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29EA-9E64-4DBD-949D-0BB92A54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90BC-2CB5-4AFF-A569-589F4FCC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E07-CB89-4F8D-800F-7D6A633E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A6C50-126D-4E18-8823-A49BE3E0F5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F3BEA-379B-47C9-9032-0D18EFC726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FFD59-1429-4459-9951-328CA9AD64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3B37A-51B4-4A75-8576-4AE1B1C2B5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075BB-397D-4C34-B9BF-093DAEF2F6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D7021-8A71-4235-A9E6-58C71FD488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6B2BB-41A7-4D5D-AE65-1A398B8C1E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D51-33A3-4E27-AD32-9A45CB82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3B1B4-9E4D-4943-A872-ECA054C765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C426D-9E6E-4538-B8E5-E8E0DD4345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35652-EE22-4E61-BC3D-C0626EA63D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7408C-36F2-4680-A2D0-88B2FB3538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CC4ED-D750-413B-872B-25E275B462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9E5B9D-C5F2-4FFD-9614-9D908675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993D36-CDC0-49FA-BA7F-F7F7F750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EE7C99-FA67-4530-8917-8E9DB79B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5D2283-21B3-449F-9AA0-423D5D0A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EC1A9E-829E-465E-AC88-F8702D1A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B434-C06B-4F37-9408-3DDE7EDA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98D846-3DF0-4C61-891A-545C57D4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624D5E-6DF3-4FC4-8FB4-A9D8E07D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AC1CBC-4595-4D97-8DAB-0226FC4A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511F43-982C-4B6A-A6EF-82981C7E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246284-B725-4968-A316-CD8A04DA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3EDCCC-BE3A-4489-A041-B2289F32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309C73-B2E8-43D3-A440-90601D1B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363E-C246-41EF-B683-D89E7781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C6DD-33C4-4BB8-8A2A-D9A91B85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E51-B220-4556-B0DE-3A7B81A0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F210-4FEE-44A3-895F-6BCDE9B5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7F3-F9E9-4E41-8269-029C3695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C6F-A293-4FF0-8678-6F33C523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47DA-DDEC-445C-AFE9-012A039D9E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-36360" y="-27000"/>
            <a:ext cx="8353440" cy="6869160"/>
          </a:xfrm>
          <a:custGeom>
            <a:avLst/>
            <a:gdLst>
              <a:gd name="textAreaLeft" fmla="*/ 0 w 8353440"/>
              <a:gd name="textAreaRight" fmla="*/ 8353800 w 8353440"/>
              <a:gd name="textAreaTop" fmla="*/ 0 h 6869160"/>
              <a:gd name="textAreaBottom" fmla="*/ 6869520 h 6869160"/>
            </a:gdLst>
            <a:ahLst/>
            <a:rect l="textAreaLeft" t="textAreaTop" r="textAreaRight" b="textAreaBottom"/>
            <a:pathLst>
              <a:path w="5381" h="4327">
                <a:moveTo>
                  <a:pt x="4017" y="17"/>
                </a:moveTo>
                <a:cubicBezTo>
                  <a:pt x="4909" y="388"/>
                  <a:pt x="5372" y="1508"/>
                  <a:pt x="5351" y="2225"/>
                </a:cubicBezTo>
                <a:cubicBezTo>
                  <a:pt x="5381" y="2951"/>
                  <a:pt x="4783" y="3968"/>
                  <a:pt x="3892" y="4318"/>
                </a:cubicBezTo>
                <a:lnTo>
                  <a:pt x="4" y="4327"/>
                </a:lnTo>
                <a:lnTo>
                  <a:pt x="0" y="0"/>
                </a:lnTo>
                <a:lnTo>
                  <a:pt x="4017" y="17"/>
                </a:lnTo>
                <a:close/>
              </a:path>
            </a:pathLst>
          </a:cu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80486" dir="1110959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-36360" y="4019400"/>
            <a:ext cx="9189720" cy="2951280"/>
          </a:xfrm>
          <a:custGeom>
            <a:avLst/>
            <a:gdLst>
              <a:gd name="textAreaLeft" fmla="*/ 0 w 9189720"/>
              <a:gd name="textAreaRight" fmla="*/ 9190080 w 918972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6272" h="1859">
                <a:moveTo>
                  <a:pt x="6252" y="0"/>
                </a:moveTo>
                <a:cubicBezTo>
                  <a:pt x="5993" y="312"/>
                  <a:pt x="5343" y="907"/>
                  <a:pt x="4292" y="1159"/>
                </a:cubicBezTo>
                <a:cubicBezTo>
                  <a:pt x="3246" y="1409"/>
                  <a:pt x="1125" y="1500"/>
                  <a:pt x="16" y="1464"/>
                </a:cubicBezTo>
                <a:cubicBezTo>
                  <a:pt x="16" y="1600"/>
                  <a:pt x="0" y="1859"/>
                  <a:pt x="2" y="1831"/>
                </a:cubicBezTo>
                <a:cubicBezTo>
                  <a:pt x="2" y="1831"/>
                  <a:pt x="3103" y="1790"/>
                  <a:pt x="6272" y="1808"/>
                </a:cubicBezTo>
                <a:cubicBezTo>
                  <a:pt x="6262" y="953"/>
                  <a:pt x="6256" y="379"/>
                  <a:pt x="6252" y="0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-47520" y="-33480"/>
            <a:ext cx="9190080" cy="1230480"/>
          </a:xfrm>
          <a:custGeom>
            <a:avLst/>
            <a:gdLst>
              <a:gd name="textAreaLeft" fmla="*/ 0 w 9190080"/>
              <a:gd name="textAreaRight" fmla="*/ 9190440 w 9190080"/>
              <a:gd name="textAreaTop" fmla="*/ 0 h 1230480"/>
              <a:gd name="textAreaBottom" fmla="*/ 1230480 h 1230480"/>
            </a:gdLst>
            <a:ahLst/>
            <a:rect l="textAreaLeft" t="textAreaTop" r="textAreaRight" b="textAreaBottom"/>
            <a:pathLst>
              <a:path w="6272" h="775">
                <a:moveTo>
                  <a:pt x="5" y="775"/>
                </a:moveTo>
                <a:cubicBezTo>
                  <a:pt x="263" y="647"/>
                  <a:pt x="1003" y="398"/>
                  <a:pt x="2054" y="295"/>
                </a:cubicBezTo>
                <a:cubicBezTo>
                  <a:pt x="3102" y="192"/>
                  <a:pt x="5151" y="145"/>
                  <a:pt x="6260" y="160"/>
                </a:cubicBezTo>
                <a:cubicBezTo>
                  <a:pt x="6260" y="104"/>
                  <a:pt x="6272" y="0"/>
                  <a:pt x="6270" y="11"/>
                </a:cubicBezTo>
                <a:cubicBezTo>
                  <a:pt x="6270" y="11"/>
                  <a:pt x="3178" y="11"/>
                  <a:pt x="8" y="4"/>
                </a:cubicBezTo>
                <a:cubicBezTo>
                  <a:pt x="17" y="355"/>
                  <a:pt x="0" y="619"/>
                  <a:pt x="5" y="775"/>
                </a:cubicBezTo>
                <a:close/>
              </a:path>
            </a:pathLst>
          </a:cu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8A68-4842-4574-B75A-7D7062377CD9}" type="slidenum">
              <a:rPr b="0" lang="ru-RU" sz="1400" spc="-1" strike="noStrike">
                <a:solidFill>
                  <a:srgbClr val="2c62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610E-8DFD-49F0-A8C8-D7617A5D56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4"/>
          <p:cNvSpPr/>
          <p:nvPr/>
        </p:nvSpPr>
        <p:spPr>
          <a:xfrm>
            <a:off x="-12600" y="4010040"/>
            <a:ext cx="9182160" cy="2892240"/>
          </a:xfrm>
          <a:custGeom>
            <a:avLst/>
            <a:gdLst>
              <a:gd name="textAreaLeft" fmla="*/ 0 w 9182160"/>
              <a:gd name="textAreaRight" fmla="*/ 9182520 w 9182160"/>
              <a:gd name="textAreaTop" fmla="*/ 0 h 2892240"/>
              <a:gd name="textAreaBottom" fmla="*/ 2892240 h 2892240"/>
            </a:gdLst>
            <a:ahLst/>
            <a:rect l="textAreaLeft" t="textAreaTop" r="textAreaRight" b="textAreaBottom"/>
            <a:pathLst>
              <a:path w="5784" h="1822">
                <a:moveTo>
                  <a:pt x="5760" y="0"/>
                </a:moveTo>
                <a:cubicBezTo>
                  <a:pt x="5521" y="312"/>
                  <a:pt x="4917" y="913"/>
                  <a:pt x="3947" y="1165"/>
                </a:cubicBezTo>
                <a:cubicBezTo>
                  <a:pt x="2981" y="1415"/>
                  <a:pt x="1023" y="1506"/>
                  <a:pt x="0" y="1470"/>
                </a:cubicBezTo>
                <a:cubicBezTo>
                  <a:pt x="0" y="1606"/>
                  <a:pt x="14" y="1822"/>
                  <a:pt x="16" y="1794"/>
                </a:cubicBezTo>
                <a:cubicBezTo>
                  <a:pt x="1818" y="1819"/>
                  <a:pt x="4180" y="1803"/>
                  <a:pt x="5784" y="1802"/>
                </a:cubicBezTo>
                <a:cubicBezTo>
                  <a:pt x="5776" y="989"/>
                  <a:pt x="5763" y="370"/>
                  <a:pt x="5760" y="0"/>
                </a:cubicBezTo>
                <a:close/>
              </a:path>
            </a:pathLst>
          </a:cu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5"/>
          <p:cNvSpPr/>
          <p:nvPr/>
        </p:nvSpPr>
        <p:spPr>
          <a:xfrm>
            <a:off x="-25560" y="-39600"/>
            <a:ext cx="9185400" cy="2181240"/>
          </a:xfrm>
          <a:custGeom>
            <a:avLst/>
            <a:gdLst>
              <a:gd name="textAreaLeft" fmla="*/ 0 w 9185400"/>
              <a:gd name="textAreaRight" fmla="*/ 9185400 w 918540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5786" h="1374">
                <a:moveTo>
                  <a:pt x="8" y="1374"/>
                </a:moveTo>
                <a:cubicBezTo>
                  <a:pt x="246" y="1148"/>
                  <a:pt x="942" y="721"/>
                  <a:pt x="1912" y="538"/>
                </a:cubicBezTo>
                <a:cubicBezTo>
                  <a:pt x="2879" y="356"/>
                  <a:pt x="4761" y="262"/>
                  <a:pt x="5784" y="288"/>
                </a:cubicBezTo>
                <a:cubicBezTo>
                  <a:pt x="5784" y="190"/>
                  <a:pt x="5786" y="5"/>
                  <a:pt x="5784" y="25"/>
                </a:cubicBezTo>
                <a:cubicBezTo>
                  <a:pt x="5784" y="25"/>
                  <a:pt x="2926" y="12"/>
                  <a:pt x="0" y="0"/>
                </a:cubicBezTo>
                <a:cubicBezTo>
                  <a:pt x="9" y="620"/>
                  <a:pt x="3" y="1099"/>
                  <a:pt x="8" y="1374"/>
                </a:cubicBezTo>
                <a:close/>
              </a:path>
            </a:pathLst>
          </a:cu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50560" y="836640"/>
            <a:ext cx="87548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33"/>
                </a:solidFill>
                <a:latin typeface="Times New Roman"/>
              </a:rPr>
              <a:t>Бюджет для гражд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"/>
          <p:cNvSpPr/>
          <p:nvPr/>
        </p:nvSpPr>
        <p:spPr>
          <a:xfrm>
            <a:off x="1603440" y="3214800"/>
            <a:ext cx="68482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00a6"/>
                </a:solidFill>
                <a:latin typeface="Times New Roman"/>
              </a:rPr>
              <a:t>К ПРОЕКТУ БЮДЖЕТА САГУНОВСКОГО СЕЛЬСКОГО ПОСЕЛЕНИЯ  НА 2023 ГОД И НА ПЛАНОВЫЙ ПЕРИОД 2024-2025 Г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920" y="213840"/>
            <a:ext cx="8642160" cy="28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	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071360" y="1071720"/>
            <a:ext cx="777708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юджет для граждан разрабатывается в целях ознакомления граждан с основными положениями проекта решения о бюджете Сагуновского сельского поселения на 2023 год и на плановый период 2024-2025 годов в доступной форме для широкого круга заинтересованных польз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509840" y="6215040"/>
            <a:ext cx="6858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3348000" y="1989000"/>
            <a:ext cx="482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Сл. Сагуны-1 0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С.Костюковка-1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Х. Большая Хвощеватка - 3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2771640" y="5013360"/>
            <a:ext cx="4681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4788000" y="1916280"/>
            <a:ext cx="43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1332000" y="1806840"/>
            <a:ext cx="6769080" cy="565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селение  1 521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468360" y="333360"/>
            <a:ext cx="82296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Сагуновское  сельское поселение  </a:t>
            </a:r>
            <a:br>
              <a:rPr sz="3200"/>
            </a:b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на 01.01.20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8059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Этапы составления и утверждения  бюджета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Сагуновского сельского поселения</a:t>
            </a: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1" name="Схема 3" descr=""/>
          <p:cNvPicPr/>
          <p:nvPr/>
        </p:nvPicPr>
        <p:blipFill>
          <a:blip r:embed="rId1"/>
          <a:stretch/>
        </p:blipFill>
        <p:spPr>
          <a:xfrm>
            <a:off x="652320" y="1407960"/>
            <a:ext cx="8406000" cy="5357880"/>
          </a:xfrm>
          <a:prstGeom prst="rect">
            <a:avLst/>
          </a:prstGeom>
          <a:ln w="0">
            <a:noFill/>
          </a:ln>
        </p:spPr>
      </p:pic>
      <p:sp>
        <p:nvSpPr>
          <p:cNvPr id="202" name="TextBox 5"/>
          <p:cNvSpPr/>
          <p:nvPr/>
        </p:nvSpPr>
        <p:spPr>
          <a:xfrm>
            <a:off x="3121200" y="1773360"/>
            <a:ext cx="5903640" cy="824040"/>
          </a:xfrm>
          <a:prstGeom prst="rect">
            <a:avLst/>
          </a:prstGeom>
          <a:solidFill>
            <a:srgbClr val="f5f5eb"/>
          </a:solidFill>
          <a:ln w="38160">
            <a:solidFill>
              <a:srgbClr val="aeae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по составлению проекта бюджета Сагуновского сельского поселения  начинается за 9 месяцев до начала очередного финансового года. Непосредственное составление проекта бюджета выполняет бухгалтер сельского по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3112920" y="3357720"/>
            <a:ext cx="5904000" cy="1265760"/>
          </a:xfrm>
          <a:prstGeom prst="rect">
            <a:avLst/>
          </a:prstGeom>
          <a:solidFill>
            <a:srgbClr val="ffe8d1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формированный проект бюджета Сагуновского сельского поселения глава  поселения вносит на рассмотрение Совета народных депутатов Сагуновского  сельского поселения не позднее 15 ноября текущего го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 проекту бюджета Сагуновского сельского поселения  проводятся публичные слушания. В слушаниях участвуют граждане, проживающие в Сагуновском сельском поселении, а также представители организаций, осуществляющих деятельность на территории Сагуновского сельского поселения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3119400" y="4929120"/>
            <a:ext cx="5905440" cy="1812600"/>
          </a:xfrm>
          <a:prstGeom prst="rect">
            <a:avLst/>
          </a:prstGeom>
          <a:solidFill>
            <a:srgbClr val="ffc7c7"/>
          </a:solidFill>
          <a:ln w="38160">
            <a:solidFill>
              <a:srgbClr val="e7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бюджета Сагуновского сельского поселения утверждается Советом народных депутатов Сагуновского сельского поселения в форме решения Совета народных депутатов сельского по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ое Советом народных депутатов Сагуновского сельского поселения решение о проекте бюджете Сагуновского сельского поселения подлежит обнародованию путем опубликования его в вестнике муниципальных правовых актов Сагуновского сельского поселения Подгоренского муниципального района Воронежской об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Документы, на основании которых составляется проект бюджета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Сагуновского сельское поселение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6" name="Picture 19" descr="wide blue arrow with fade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2816280" y="1557360"/>
            <a:ext cx="3429000" cy="3808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0"/>
          <p:cNvSpPr/>
          <p:nvPr/>
        </p:nvSpPr>
        <p:spPr>
          <a:xfrm>
            <a:off x="1554120" y="2060640"/>
            <a:ext cx="6697800" cy="64260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33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ное послание Президента Российской Федерации Федеральному Собр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1"/>
          <p:cNvSpPr/>
          <p:nvPr/>
        </p:nvSpPr>
        <p:spPr>
          <a:xfrm>
            <a:off x="1547640" y="3151080"/>
            <a:ext cx="6704280" cy="91692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33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ание Губернатора области, в котором определяются основные направления бюджетной и налоговой по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4"/>
          <p:cNvSpPr/>
          <p:nvPr/>
        </p:nvSpPr>
        <p:spPr>
          <a:xfrm>
            <a:off x="1547640" y="4292640"/>
            <a:ext cx="6697800" cy="98028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33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ноз социально-экономического развития Подгоренского муниципального район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гуновского сельского пос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4"/>
          <p:cNvSpPr/>
          <p:nvPr/>
        </p:nvSpPr>
        <p:spPr>
          <a:xfrm>
            <a:off x="1547640" y="5445000"/>
            <a:ext cx="6697800" cy="642600"/>
          </a:xfrm>
          <a:prstGeom prst="rect">
            <a:avLst/>
          </a:prstGeom>
          <a:gradFill rotWithShape="0">
            <a:gsLst>
              <a:gs pos="0">
                <a:srgbClr val="d3d3ae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33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ая программа Сагуновского сельского по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06616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Прогноз социально - экономического развития Сагуновского сельского поселени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Скругленный прямоугольник 4"/>
          <p:cNvSpPr/>
          <p:nvPr/>
        </p:nvSpPr>
        <p:spPr>
          <a:xfrm>
            <a:off x="3500280" y="3000240"/>
            <a:ext cx="5597640" cy="1459800"/>
          </a:xfrm>
          <a:prstGeom prst="roundRect">
            <a:avLst>
              <a:gd name="adj" fmla="val 42380"/>
            </a:avLst>
          </a:prstGeom>
          <a:gradFill rotWithShape="0">
            <a:gsLst>
              <a:gs pos="0">
                <a:srgbClr val="ffd1ff"/>
              </a:gs>
              <a:gs pos="100000">
                <a:srgbClr val="f7f7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889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яет направления и ожидаемые результаты социально-экономического развития Сагуновского сельского поселения в среднесрочной перспекти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5"/>
          <p:cNvSpPr/>
          <p:nvPr/>
        </p:nvSpPr>
        <p:spPr>
          <a:xfrm>
            <a:off x="576360" y="1989000"/>
            <a:ext cx="2663640" cy="3743640"/>
          </a:xfrm>
          <a:custGeom>
            <a:avLst/>
            <a:gdLst>
              <a:gd name="textAreaLeft" fmla="*/ 129960 w 2663640"/>
              <a:gd name="textAreaRight" fmla="*/ 2533680 w 2663640"/>
              <a:gd name="textAreaTop" fmla="*/ 129960 h 3743640"/>
              <a:gd name="textAreaBottom" fmla="*/ 3613680 h 3743640"/>
            </a:gdLst>
            <a:ahLst/>
            <a:rect l="textAreaLeft" t="textAreaTop" r="textAreaRight" b="textAreaBottom"/>
            <a:pathLst>
              <a:path w="21600" h="30357">
                <a:moveTo>
                  <a:pt x="3600" y="0"/>
                </a:moveTo>
                <a:arcTo wR="3600" hR="3600" stAng="16200000" swAng="-5400000"/>
                <a:lnTo>
                  <a:pt x="0" y="26757"/>
                </a:lnTo>
                <a:arcTo wR="3600" hR="3600" stAng="10800000" swAng="-5400000"/>
                <a:lnTo>
                  <a:pt x="18000" y="303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e1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огноз социально-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агуновского сельского поселен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а 2023 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 на плановый период до 202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16"/>
          <p:cNvSpPr/>
          <p:nvPr/>
        </p:nvSpPr>
        <p:spPr>
          <a:xfrm>
            <a:off x="539640" y="1628640"/>
            <a:ext cx="8280360" cy="3024360"/>
          </a:xfrm>
          <a:prstGeom prst="horizontalScroll">
            <a:avLst>
              <a:gd name="adj" fmla="val 1879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стный бюджет  – это ежего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верждаемый Советом народных депута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гуновского сельского поселе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д доходов и расходов на очеред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ов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771640" y="476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a8a4c"/>
                </a:solidFill>
                <a:latin typeface="Arial"/>
              </a:rPr>
              <a:t>Местный бюдж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cb-5</cp:lastModifiedBy>
  <cp:lastPrinted>2013-10-03T09:30:52Z</cp:lastPrinted>
  <dcterms:modified xsi:type="dcterms:W3CDTF">2022-11-30T13:48:07Z</dcterms:modified>
  <cp:revision>169</cp:revision>
  <dc:subject/>
  <dc:title>Слайд 1</dc:title>
</cp:coreProperties>
</file>