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7BF-3375-471F-8206-50D1A14E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16C-6EF2-4E95-8ECA-866DBE0A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94E-0541-4572-B209-A15E2252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F01-B74A-456F-B843-36FA1198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995E5-AF99-4220-AA07-0E37232483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6BB0B-A634-4627-8757-3C3A369B69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6B974-2D85-4E90-996A-85508B46F3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A2964-E2C5-4B71-A1DA-CA3787D96B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0DD13-9A6B-4913-A6CE-C74D710F7F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768B7-EED1-451E-BFF0-F58207509D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1EC5D-963B-489E-B6CF-9288B0EABE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1C5-E2CE-48B5-8C60-A1DF23C5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A612D-6588-41CD-B3AA-68A4F2C735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D0CC1-0446-48A2-A6A4-43DE425817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9627B-BE6D-4AD5-90B7-59F5F4C931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DD7F4-4268-40A7-ADC6-E9F2F939CD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E8ED8-8EAD-4DBD-81CC-A312F425D2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7B38A5-0690-40D5-B911-21E57A37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EF97DC-5A49-49EB-BF05-539A8C37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566552-43D4-45A8-9A5C-4B074C2A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0A9798-D087-4B6F-A0D9-6C5E133B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8F2A78-7317-465B-BB42-7C08984D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DCEE-EBE3-47FE-8827-87CA7879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B42C50-14E4-4B3C-A920-D336F7F1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BD70EE-5808-40AC-8169-B645E563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6C552B-2220-465F-A631-34745D7B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C89901-4F3A-4DAF-959F-D68DF3A9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3D29CA-EC53-4E25-8DEE-C620B5BB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E020A4-1FA2-4E98-9DED-75786C4A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CCC5E9-B7D6-463A-83AA-15E227B8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F66-A898-4BE2-8494-CEA38BBA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C10-9E66-451D-B57A-E313A4F8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CAA-3260-4450-B873-8F61E66E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0F1D-D683-4523-A236-12EF491E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B15-2501-49AC-9647-853DBF09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024-13DA-463F-994C-3D495ED1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BF68-178A-4448-8DA8-C036829B4A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>
              <a:gd name="textAreaLeft" fmla="*/ 0 w 8353440"/>
              <a:gd name="textAreaRight" fmla="*/ 8353800 w 83534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>
              <a:gd name="textAreaLeft" fmla="*/ 0 w 9189720"/>
              <a:gd name="textAreaRight" fmla="*/ 9190080 w 918972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>
              <a:gd name="textAreaLeft" fmla="*/ 0 w 9190080"/>
              <a:gd name="textAreaRight" fmla="*/ 9190440 w 9190080"/>
              <a:gd name="textAreaTop" fmla="*/ 0 h 1230480"/>
              <a:gd name="textAreaBottom" fmla="*/ 1230480 h 1230480"/>
            </a:gdLst>
            <a:ahLst/>
            <a:rect l="textAreaLeft" t="textAreaTop" r="textAreaRight" b="textAreaBottom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74FA-8E50-40FD-8A1D-DC6615D5B208}" type="slidenum">
              <a:rPr b="0" lang="ru-RU" sz="1400" spc="-1" strike="noStrike">
                <a:solidFill>
                  <a:srgbClr val="2c628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D14A-7F10-4351-AEBE-FC2397FFC90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>
              <a:gd name="textAreaLeft" fmla="*/ 0 w 9182160"/>
              <a:gd name="textAreaRight" fmla="*/ 9182520 w 9182160"/>
              <a:gd name="textAreaTop" fmla="*/ 0 h 2892240"/>
              <a:gd name="textAreaBottom" fmla="*/ 2892240 h 2892240"/>
            </a:gdLst>
            <a:ahLst/>
            <a:rect l="textAreaLeft" t="textAreaTop" r="textAreaRight" b="textAreaBottom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>
              <a:gd name="textAreaLeft" fmla="*/ 0 w 9185400"/>
              <a:gd name="textAreaRight" fmla="*/ 9185400 w 91854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0033"/>
                </a:solidFill>
                <a:latin typeface="Times New Roman"/>
              </a:rPr>
              <a:t>Расходы бюджет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11280" y="1599840"/>
            <a:ext cx="820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ходы бюдже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ыплачиваемые из бюджета денежные сре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ъём расходо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ется исходя из объёма средств, необходимых для исполнения установленных законодательством полномочий органов местного само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ходы местного  бюджет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лассифицирую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разделам и подраздел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униципальным программам по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Структура расходов бюджета Сагуновского  сельского поселения на 2023 год, руб. %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6" name="Chart 1" descr=""/>
          <p:cNvPicPr/>
          <p:nvPr/>
        </p:nvPicPr>
        <p:blipFill>
          <a:blip r:embed="rId1"/>
          <a:stretch/>
        </p:blipFill>
        <p:spPr>
          <a:xfrm>
            <a:off x="907920" y="1596960"/>
            <a:ext cx="77914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Структура расходов бюджета Сагуновского  сельского поселения на 2024 год, руб.  %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8" name="Chart 1" descr=""/>
          <p:cNvPicPr/>
          <p:nvPr/>
        </p:nvPicPr>
        <p:blipFill>
          <a:blip r:embed="rId1"/>
          <a:stretch/>
        </p:blipFill>
        <p:spPr>
          <a:xfrm>
            <a:off x="907920" y="1596960"/>
            <a:ext cx="7791480" cy="4548240"/>
          </a:xfrm>
          <a:prstGeom prst="rect">
            <a:avLst/>
          </a:prstGeom>
          <a:ln w="0">
            <a:noFill/>
          </a:ln>
        </p:spPr>
      </p:pic>
      <p:pic>
        <p:nvPicPr>
          <p:cNvPr id="189" name="Chart 1" descr=""/>
          <p:cNvPicPr/>
          <p:nvPr/>
        </p:nvPicPr>
        <p:blipFill>
          <a:blip r:embed="rId2"/>
          <a:stretch/>
        </p:blipFill>
        <p:spPr>
          <a:xfrm>
            <a:off x="963720" y="1620720"/>
            <a:ext cx="772308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Структура расходов бюджета Сагуновского сельского поселения на 2025 год, руб.  %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1" name="Chart 1" descr=""/>
          <p:cNvPicPr/>
          <p:nvPr/>
        </p:nvPicPr>
        <p:blipFill>
          <a:blip r:embed="rId1"/>
          <a:stretch/>
        </p:blipFill>
        <p:spPr>
          <a:xfrm>
            <a:off x="907920" y="1596960"/>
            <a:ext cx="77914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60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0033"/>
                </a:solidFill>
                <a:latin typeface="Times New Roman"/>
              </a:rPr>
              <a:t>Проект бюджета Сагуновского сельского поселения формируется в рамках 1 муниципальной программы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2195640" y="1628640"/>
            <a:ext cx="4897440" cy="12956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ниципальная программа на 2019 – 2026 го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2"/>
          <p:cNvSpPr/>
          <p:nvPr/>
        </p:nvSpPr>
        <p:spPr>
          <a:xfrm>
            <a:off x="3203640" y="6165720"/>
            <a:ext cx="3097080" cy="30708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,0 % расходов бюдж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1"/>
          <p:cNvSpPr/>
          <p:nvPr/>
        </p:nvSpPr>
        <p:spPr>
          <a:xfrm>
            <a:off x="2857680" y="3500280"/>
            <a:ext cx="3571560" cy="13575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администр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агуновского сельского поселения Подгорен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ипального района Воронеж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 flipV="1" rot="5420400">
            <a:off x="4642560" y="2347560"/>
            <a:ext cx="358920" cy="7129440"/>
          </a:xfrm>
          <a:custGeom>
            <a:avLst/>
            <a:gdLst>
              <a:gd name="textAreaLeft" fmla="*/ 0 w 358920"/>
              <a:gd name="textAreaRight" fmla="*/ 359280 w 358920"/>
              <a:gd name="textAreaTop" fmla="*/ 360 h 7129440"/>
              <a:gd name="textAreaBottom" fmla="*/ 7130160 h 712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lnTo>
                  <a:pt x="2160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7"/>
          <p:cNvSpPr/>
          <p:nvPr/>
        </p:nvSpPr>
        <p:spPr>
          <a:xfrm>
            <a:off x="4714920" y="30718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9"/>
          <p:cNvSpPr/>
          <p:nvPr/>
        </p:nvSpPr>
        <p:spPr>
          <a:xfrm>
            <a:off x="4140360" y="5013360"/>
            <a:ext cx="1584000" cy="52020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6 347,6 тыс.ру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cb-5</cp:lastModifiedBy>
  <cp:lastPrinted>2013-10-03T09:30:52Z</cp:lastPrinted>
  <dcterms:modified xsi:type="dcterms:W3CDTF">2022-11-30T14:05:10Z</dcterms:modified>
  <cp:revision>150</cp:revision>
  <dc:subject/>
  <dc:title>Слайд 1</dc:title>
</cp:coreProperties>
</file>