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45E-2182-4AD4-986E-AB7071EC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B3A-674B-4FBE-B4FB-3B36DEAA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8CF-11BD-43D9-8552-95D4EF99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BE0-6EB7-4A23-A04A-4AEFAEB2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08D7B-8B02-4389-8359-FD6AC9E945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6DB89-3EAE-4ABE-9BBA-B014F2BA49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DBFCD-0464-49CB-9BF1-AB19452628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E9913-3A7A-4C75-810A-F2ADB01395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CD4A6-4C98-4133-8C35-CD5234D238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AF7E5-B3AE-499A-B33C-10E49B6E38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0995A-6E27-41E8-9BC0-242F25D94B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8856-9A7B-43B7-A05E-E737905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4B0B8-7976-4AC8-AE8A-1999BD4B8A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E51A1-E594-4CEB-83E1-DCC9640481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1B027-87A7-4186-9E74-BFCC7C8CBA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32FE5-9DAF-40FB-AD9B-8A8DF72057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56F0C-E3DF-41E0-B996-28BF318F26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2DEF4-E615-41FE-BFDB-AB06A1CA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D782E-3E8C-48E1-ADC4-F22F5CC7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67806-2EDD-4EEE-A384-04EFA251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72CCD-DA2B-4CA6-91CA-84ACEA3E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ABE187-2C19-4D87-BB88-7A66F2C0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7A1-706D-4861-A626-6CAD1805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CA0844-F773-4D31-B512-3F4D6F40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2B501A-A6C5-4F65-A811-9F36A119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E6901-FB12-4B59-AC45-0A05AFE5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AAD2A0-1183-49B1-AA67-51DF9CEA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A8E4AC-DD5C-43E0-94A0-2C032DD4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838E3-8376-4DB8-A6F2-9ECE825A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B4AC2-11B0-4471-BC4F-8C9D5F29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CBC-3C9B-4FD3-8EC7-778DE5FD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B18-20B9-404C-B166-55D0E874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54E1-F113-4F18-8521-C70C587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1CD5-E861-46C3-A706-585F9BD8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A7B-6D0C-41F5-A5D6-10E4342A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215-BA5C-4071-94B9-757F4D8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D83F-22DC-4346-8107-956A0D2E1D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3F5D-3251-4AD7-9677-A747BB7DF963}" type="slidenum">
              <a:rPr b="0" lang="ru-RU" sz="1400" spc="-1" strike="noStrike">
                <a:solidFill>
                  <a:srgbClr val="2c628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7316-53DA-43EE-AF28-6EC2EA1C8B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0080" y="142560"/>
            <a:ext cx="76867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0033"/>
                </a:solidFill>
                <a:latin typeface="Times New Roman"/>
              </a:rPr>
              <a:t>Основные цели бюджетной политики на 2023 год и на плановый период 2024-2025 гг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4360" y="1989000"/>
          <a:ext cx="8207280" cy="434988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11606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588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6028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8701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e1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33"/>
                </a:solidFill>
                <a:latin typeface="Times New Roman"/>
              </a:rPr>
              <a:t>Сбалансированность бюджет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ebd6"/>
              </a:gs>
              <a:gs pos="100000">
                <a:srgbClr val="f5f5eb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Arial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20"/>
          <p:cNvGrpSpPr/>
          <p:nvPr/>
        </p:nvGrpSpPr>
        <p:grpSpPr>
          <a:xfrm>
            <a:off x="3419640" y="3246480"/>
            <a:ext cx="2592360" cy="1360440"/>
            <a:chOff x="3419640" y="3246480"/>
            <a:chExt cx="2592360" cy="1360440"/>
          </a:xfrm>
        </p:grpSpPr>
        <p:sp>
          <p:nvSpPr>
            <p:cNvPr id="196" name="TextBox 21"/>
            <p:cNvSpPr/>
            <p:nvPr/>
          </p:nvSpPr>
          <p:spPr>
            <a:xfrm>
              <a:off x="3419640" y="3246480"/>
              <a:ext cx="25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023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ходы         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7 622,1          7 622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Левая фигурная скобка 22"/>
            <p:cNvSpPr/>
            <p:nvPr/>
          </p:nvSpPr>
          <p:spPr>
            <a:xfrm rot="16200000">
              <a:off x="4510080" y="3479760"/>
              <a:ext cx="382320" cy="1871640"/>
            </a:xfrm>
            <a:custGeom>
              <a:avLst/>
              <a:gdLst>
                <a:gd name="textAreaLeft" fmla="*/ 244440 w 382320"/>
                <a:gd name="textAreaRight" fmla="*/ 382680 w 38232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Скругленный прямоугольник 26"/>
          <p:cNvSpPr/>
          <p:nvPr/>
        </p:nvSpPr>
        <p:spPr>
          <a:xfrm>
            <a:off x="971640" y="5373720"/>
            <a:ext cx="655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0e0c2"/>
              </a:gs>
              <a:gs pos="50000">
                <a:srgbClr val="ffffe1"/>
              </a:gs>
              <a:gs pos="100000">
                <a:srgbClr val="e0e0c2"/>
              </a:gs>
            </a:gsLst>
            <a:lin ang="5400000"/>
          </a:gra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0f"/>
                </a:solidFill>
                <a:latin typeface="Arial"/>
              </a:rPr>
              <a:t>Бюджет сбалансирован без дефицита и профи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e1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e1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5</cp:lastModifiedBy>
  <cp:lastPrinted>2013-10-03T09:30:52Z</cp:lastPrinted>
  <dcterms:modified xsi:type="dcterms:W3CDTF">2022-11-30T13:49:49Z</dcterms:modified>
  <cp:revision>135</cp:revision>
  <dc:subject/>
  <dc:title>Слайд 1</dc:title>
</cp:coreProperties>
</file>