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8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70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9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0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EDD0-8303-4CC2-94A6-08B4342FD5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E24A-868C-4550-A2F5-42584727EA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4A43-BEE8-450F-8B68-CF5A4D7C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9B26-4670-42D6-B4C3-1AF8CED5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9E6D-E52A-4D44-AE47-451EE387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35BE-ED4E-477A-834A-E2710325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F1215-74AE-4B99-9B11-1649CE56A6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A759D-CCA8-425C-BE03-CAE987D466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0E31C-1D23-40C2-A59A-D3017AF60D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7A2EF-4AC8-40A1-B60C-0CCE296488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57327-FCC5-4AE4-93AE-0525746624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694B0-D852-4EB8-880F-07BF3FF5B5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9FD48-3C28-4725-97E6-AFCBBE99EE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C043-7E2F-4294-8AB8-E8E82D47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80249-77BA-40F9-B724-817A889252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8AD02-9C1B-4947-B974-5706242E39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2C58B-F2DA-485E-99B7-B045A32A60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23A8C-C197-428C-9224-C327BFB3C8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2BC84-7235-4E50-8ADA-9DE46532FF4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288605-13AA-4A1A-B933-46F489F1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112FF8-7273-4A1F-8D67-FC25A90D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F080C6-990A-4F95-93E9-100C3FD6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C7DEA0-0F00-4283-9ED2-42F5E51F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96662D-B66D-4E5F-A7E0-49B9822C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F747-B398-4247-8CE1-35C7E154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97284B-8018-449A-BFFD-771D81F0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083F8E-5766-4463-BDB1-2B3028B0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4CA776-4EF3-4DEE-89B2-1E984D31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F5222A-BA16-465F-A0A9-04B79A46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C31566-1BBC-42FF-B008-5119BCF1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C3F70C-B5E9-43AD-BDB1-B501C4F3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D50E7C-DA2F-4CAC-9CFD-E2ACD4B8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48F7-BC07-456C-8C57-550DB5FC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5E5E-79FB-454B-8C85-4BD5D831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B4F1-67A4-43EB-A53B-13AB3B17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594B-4EFF-4A13-99C5-CC084999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09B7-9929-4566-B1F1-9B94B105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C8B0-2494-4770-9BF2-637816FB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CB63-5B2A-4E86-AF18-68865624342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-36360" y="-27000"/>
            <a:ext cx="8353440" cy="6869160"/>
          </a:xfrm>
          <a:custGeom>
            <a:avLst/>
            <a:gdLst>
              <a:gd name="textAreaLeft" fmla="*/ 0 w 8353440"/>
              <a:gd name="textAreaRight" fmla="*/ 8353800 w 8353440"/>
              <a:gd name="textAreaTop" fmla="*/ 0 h 6869160"/>
              <a:gd name="textAreaBottom" fmla="*/ 6869520 h 6869160"/>
            </a:gdLst>
            <a:ahLst/>
            <a:rect l="textAreaLeft" t="textAreaTop" r="textAreaRight" b="textAreaBottom"/>
            <a:pathLst>
              <a:path w="5381" h="4327">
                <a:moveTo>
                  <a:pt x="4017" y="17"/>
                </a:moveTo>
                <a:cubicBezTo>
                  <a:pt x="4909" y="388"/>
                  <a:pt x="5372" y="1508"/>
                  <a:pt x="5351" y="2225"/>
                </a:cubicBezTo>
                <a:cubicBezTo>
                  <a:pt x="5381" y="2951"/>
                  <a:pt x="4783" y="3968"/>
                  <a:pt x="3892" y="4318"/>
                </a:cubicBezTo>
                <a:lnTo>
                  <a:pt x="4" y="4327"/>
                </a:lnTo>
                <a:lnTo>
                  <a:pt x="0" y="0"/>
                </a:lnTo>
                <a:lnTo>
                  <a:pt x="4017" y="17"/>
                </a:lnTo>
                <a:close/>
              </a:path>
            </a:pathLst>
          </a:custGeom>
          <a:gradFill rotWithShape="0">
            <a:gsLst>
              <a:gs pos="0">
                <a:srgbClr val="bdd3dd"/>
              </a:gs>
              <a:gs pos="50000">
                <a:srgbClr val="e4edf1"/>
              </a:gs>
              <a:gs pos="100000">
                <a:srgbClr val="bdd3dd"/>
              </a:gs>
            </a:gsLst>
            <a:lin ang="5400000"/>
          </a:gradFill>
          <a:ln w="0">
            <a:noFill/>
          </a:ln>
          <a:effectLst>
            <a:outerShdw dist="80486" dir="1110959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-36360" y="4019400"/>
            <a:ext cx="9189720" cy="2951280"/>
          </a:xfrm>
          <a:custGeom>
            <a:avLst/>
            <a:gdLst>
              <a:gd name="textAreaLeft" fmla="*/ 0 w 9189720"/>
              <a:gd name="textAreaRight" fmla="*/ 9190080 w 9189720"/>
              <a:gd name="textAreaTop" fmla="*/ 0 h 2951280"/>
              <a:gd name="textAreaBottom" fmla="*/ 2951640 h 2951280"/>
            </a:gdLst>
            <a:ahLst/>
            <a:rect l="textAreaLeft" t="textAreaTop" r="textAreaRight" b="textAreaBottom"/>
            <a:pathLst>
              <a:path w="6272" h="1859">
                <a:moveTo>
                  <a:pt x="6252" y="0"/>
                </a:moveTo>
                <a:cubicBezTo>
                  <a:pt x="5993" y="312"/>
                  <a:pt x="5343" y="907"/>
                  <a:pt x="4292" y="1159"/>
                </a:cubicBezTo>
                <a:cubicBezTo>
                  <a:pt x="3246" y="1409"/>
                  <a:pt x="1125" y="1500"/>
                  <a:pt x="16" y="1464"/>
                </a:cubicBezTo>
                <a:cubicBezTo>
                  <a:pt x="16" y="1600"/>
                  <a:pt x="0" y="1859"/>
                  <a:pt x="2" y="1831"/>
                </a:cubicBezTo>
                <a:cubicBezTo>
                  <a:pt x="2" y="1831"/>
                  <a:pt x="3103" y="1790"/>
                  <a:pt x="6272" y="1808"/>
                </a:cubicBezTo>
                <a:cubicBezTo>
                  <a:pt x="6262" y="953"/>
                  <a:pt x="6256" y="379"/>
                  <a:pt x="6252" y="0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  <a:effectLst>
            <a:outerShdw dist="107932" dir="13500000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-47520" y="-33480"/>
            <a:ext cx="9190080" cy="1230480"/>
          </a:xfrm>
          <a:custGeom>
            <a:avLst/>
            <a:gdLst>
              <a:gd name="textAreaLeft" fmla="*/ 0 w 9190080"/>
              <a:gd name="textAreaRight" fmla="*/ 9190440 w 9190080"/>
              <a:gd name="textAreaTop" fmla="*/ 0 h 1230480"/>
              <a:gd name="textAreaBottom" fmla="*/ 1230480 h 1230480"/>
            </a:gdLst>
            <a:ahLst/>
            <a:rect l="textAreaLeft" t="textAreaTop" r="textAreaRight" b="textAreaBottom"/>
            <a:pathLst>
              <a:path w="6272" h="775">
                <a:moveTo>
                  <a:pt x="5" y="775"/>
                </a:moveTo>
                <a:cubicBezTo>
                  <a:pt x="263" y="647"/>
                  <a:pt x="1003" y="398"/>
                  <a:pt x="2054" y="295"/>
                </a:cubicBezTo>
                <a:cubicBezTo>
                  <a:pt x="3102" y="192"/>
                  <a:pt x="5151" y="145"/>
                  <a:pt x="6260" y="160"/>
                </a:cubicBezTo>
                <a:cubicBezTo>
                  <a:pt x="6260" y="104"/>
                  <a:pt x="6272" y="0"/>
                  <a:pt x="6270" y="11"/>
                </a:cubicBezTo>
                <a:cubicBezTo>
                  <a:pt x="6270" y="11"/>
                  <a:pt x="3178" y="11"/>
                  <a:pt x="8" y="4"/>
                </a:cubicBezTo>
                <a:cubicBezTo>
                  <a:pt x="17" y="355"/>
                  <a:pt x="0" y="619"/>
                  <a:pt x="5" y="775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c628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2D2B-31E5-4712-8423-8BADD6CA31AA}" type="slidenum">
              <a:rPr b="0" lang="ru-RU" sz="1400" spc="-1" strike="noStrike">
                <a:solidFill>
                  <a:srgbClr val="2c628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BEBB-C546-4C66-A903-EDC38153F6D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" descr="731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4"/>
          <p:cNvSpPr/>
          <p:nvPr/>
        </p:nvSpPr>
        <p:spPr>
          <a:xfrm>
            <a:off x="-12600" y="4010040"/>
            <a:ext cx="9182160" cy="2892240"/>
          </a:xfrm>
          <a:custGeom>
            <a:avLst/>
            <a:gdLst>
              <a:gd name="textAreaLeft" fmla="*/ 0 w 9182160"/>
              <a:gd name="textAreaRight" fmla="*/ 9182520 w 9182160"/>
              <a:gd name="textAreaTop" fmla="*/ 0 h 2892240"/>
              <a:gd name="textAreaBottom" fmla="*/ 2892240 h 2892240"/>
            </a:gdLst>
            <a:ahLst/>
            <a:rect l="textAreaLeft" t="textAreaTop" r="textAreaRight" b="textAreaBottom"/>
            <a:pathLst>
              <a:path w="5784" h="1822">
                <a:moveTo>
                  <a:pt x="5760" y="0"/>
                </a:moveTo>
                <a:cubicBezTo>
                  <a:pt x="5521" y="312"/>
                  <a:pt x="4917" y="913"/>
                  <a:pt x="3947" y="1165"/>
                </a:cubicBezTo>
                <a:cubicBezTo>
                  <a:pt x="2981" y="1415"/>
                  <a:pt x="1023" y="1506"/>
                  <a:pt x="0" y="1470"/>
                </a:cubicBezTo>
                <a:cubicBezTo>
                  <a:pt x="0" y="1606"/>
                  <a:pt x="14" y="1822"/>
                  <a:pt x="16" y="1794"/>
                </a:cubicBezTo>
                <a:cubicBezTo>
                  <a:pt x="1818" y="1819"/>
                  <a:pt x="4180" y="1803"/>
                  <a:pt x="5784" y="1802"/>
                </a:cubicBezTo>
                <a:cubicBezTo>
                  <a:pt x="5776" y="989"/>
                  <a:pt x="5763" y="370"/>
                  <a:pt x="5760" y="0"/>
                </a:cubicBezTo>
                <a:close/>
              </a:path>
            </a:pathLst>
          </a:custGeom>
          <a:gradFill rotWithShape="0">
            <a:gsLst>
              <a:gs pos="0">
                <a:srgbClr val="6197af">
                  <a:alpha val="58039"/>
                </a:srgbClr>
              </a:gs>
              <a:gs pos="100000">
                <a:srgbClr val="1a708e"/>
              </a:gs>
            </a:gsLst>
            <a:lin ang="0"/>
          </a:gradFill>
          <a:ln w="0">
            <a:noFill/>
          </a:ln>
          <a:effectLst>
            <a:outerShdw dist="107932" dir="135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5"/>
          <p:cNvSpPr/>
          <p:nvPr/>
        </p:nvSpPr>
        <p:spPr>
          <a:xfrm>
            <a:off x="-25560" y="-39600"/>
            <a:ext cx="9185400" cy="2181240"/>
          </a:xfrm>
          <a:custGeom>
            <a:avLst/>
            <a:gdLst>
              <a:gd name="textAreaLeft" fmla="*/ 0 w 9185400"/>
              <a:gd name="textAreaRight" fmla="*/ 9185400 w 9185400"/>
              <a:gd name="textAreaTop" fmla="*/ 0 h 2181240"/>
              <a:gd name="textAreaBottom" fmla="*/ 2181600 h 2181240"/>
            </a:gdLst>
            <a:ahLst/>
            <a:rect l="textAreaLeft" t="textAreaTop" r="textAreaRight" b="textAreaBottom"/>
            <a:pathLst>
              <a:path w="5786" h="1374">
                <a:moveTo>
                  <a:pt x="8" y="1374"/>
                </a:moveTo>
                <a:cubicBezTo>
                  <a:pt x="246" y="1148"/>
                  <a:pt x="942" y="721"/>
                  <a:pt x="1912" y="538"/>
                </a:cubicBezTo>
                <a:cubicBezTo>
                  <a:pt x="2879" y="356"/>
                  <a:pt x="4761" y="262"/>
                  <a:pt x="5784" y="288"/>
                </a:cubicBezTo>
                <a:cubicBezTo>
                  <a:pt x="5784" y="190"/>
                  <a:pt x="5786" y="5"/>
                  <a:pt x="5784" y="25"/>
                </a:cubicBezTo>
                <a:cubicBezTo>
                  <a:pt x="5784" y="25"/>
                  <a:pt x="2926" y="12"/>
                  <a:pt x="0" y="0"/>
                </a:cubicBezTo>
                <a:cubicBezTo>
                  <a:pt x="9" y="620"/>
                  <a:pt x="3" y="1099"/>
                  <a:pt x="8" y="1374"/>
                </a:cubicBezTo>
                <a:close/>
              </a:path>
            </a:pathLst>
          </a:custGeom>
          <a:gradFill rotWithShape="0">
            <a:gsLst>
              <a:gs pos="0">
                <a:srgbClr val="1a708e"/>
              </a:gs>
              <a:gs pos="100000">
                <a:srgbClr val="6197af">
                  <a:alpha val="58039"/>
                </a:srgbClr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Карта области4"/>
          <p:cNvPicPr/>
          <p:nvPr/>
        </p:nvPicPr>
        <p:blipFill>
          <a:blip r:embed="rId3"/>
          <a:stretch/>
        </p:blipFill>
        <p:spPr>
          <a:xfrm>
            <a:off x="2195640" y="189000"/>
            <a:ext cx="4564080" cy="6497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0040" y="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Доходы местного бюджет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09320" y="1526760"/>
            <a:ext cx="28494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4"/>
          <p:cNvSpPr/>
          <p:nvPr/>
        </p:nvSpPr>
        <p:spPr>
          <a:xfrm>
            <a:off x="3724200" y="3751200"/>
            <a:ext cx="2244960" cy="2098800"/>
          </a:xfrm>
          <a:prstGeom prst="rect">
            <a:avLst/>
          </a:prstGeom>
          <a:gradFill rotWithShape="0">
            <a:gsLst>
              <a:gs pos="0">
                <a:srgbClr val="ffffee"/>
              </a:gs>
              <a:gs pos="100000">
                <a:srgbClr val="fffff9"/>
              </a:gs>
            </a:gsLst>
            <a:lin ang="16200000"/>
          </a:gradFill>
          <a:ln w="9360">
            <a:solidFill>
              <a:srgbClr val="fafa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ья 62 Бюджетного Кодекса Российской Федер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5"/>
          <p:cNvSpPr/>
          <p:nvPr/>
        </p:nvSpPr>
        <p:spPr>
          <a:xfrm>
            <a:off x="5969160" y="3751200"/>
            <a:ext cx="2347920" cy="2100240"/>
          </a:xfrm>
          <a:prstGeom prst="rect">
            <a:avLst/>
          </a:prstGeom>
          <a:gradFill rotWithShape="0">
            <a:gsLst>
              <a:gs pos="0">
                <a:srgbClr val="ffffee"/>
              </a:gs>
              <a:gs pos="100000">
                <a:srgbClr val="fffff9"/>
              </a:gs>
            </a:gsLst>
            <a:lin ang="16200000"/>
          </a:gradFill>
          <a:ln w="9360">
            <a:solidFill>
              <a:srgbClr val="fafa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, получаемые из других бюдж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1"/>
          <p:cNvSpPr/>
          <p:nvPr/>
        </p:nvSpPr>
        <p:spPr>
          <a:xfrm>
            <a:off x="1417680" y="3751200"/>
            <a:ext cx="2287440" cy="2098800"/>
          </a:xfrm>
          <a:prstGeom prst="rect">
            <a:avLst/>
          </a:prstGeom>
          <a:gradFill rotWithShape="0">
            <a:gsLst>
              <a:gs pos="0">
                <a:srgbClr val="ffffee"/>
              </a:gs>
              <a:gs pos="100000">
                <a:srgbClr val="fffff9"/>
              </a:gs>
            </a:gsLst>
            <a:lin ang="16200000"/>
          </a:gradFill>
          <a:ln w="9360">
            <a:solidFill>
              <a:srgbClr val="fafa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ог на доходы физических лиц, земельный налог, налог на имущество физических лиц, налоговые доходы от федеральных налогов и сборов, в том числе налогов, предусмотренных специальными налоговыми режи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трелка вниз 6"/>
          <p:cNvSpPr/>
          <p:nvPr/>
        </p:nvSpPr>
        <p:spPr>
          <a:xfrm>
            <a:off x="2050920" y="2576520"/>
            <a:ext cx="936720" cy="79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трелка вниз 8"/>
          <p:cNvSpPr/>
          <p:nvPr/>
        </p:nvSpPr>
        <p:spPr>
          <a:xfrm>
            <a:off x="4356000" y="2576520"/>
            <a:ext cx="863640" cy="79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трелка вниз 9"/>
          <p:cNvSpPr/>
          <p:nvPr/>
        </p:nvSpPr>
        <p:spPr>
          <a:xfrm>
            <a:off x="6588000" y="2576520"/>
            <a:ext cx="863640" cy="79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13"/>
          <p:cNvSpPr/>
          <p:nvPr/>
        </p:nvSpPr>
        <p:spPr>
          <a:xfrm>
            <a:off x="6097680" y="1415880"/>
            <a:ext cx="1904760" cy="91440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Безвозмездные поступ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6"/>
          <p:cNvSpPr/>
          <p:nvPr/>
        </p:nvSpPr>
        <p:spPr>
          <a:xfrm>
            <a:off x="3894120" y="1415880"/>
            <a:ext cx="1905120" cy="91440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Неналоговые 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17"/>
          <p:cNvSpPr/>
          <p:nvPr/>
        </p:nvSpPr>
        <p:spPr>
          <a:xfrm>
            <a:off x="1609560" y="1415880"/>
            <a:ext cx="1905120" cy="91440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Arial"/>
              </a:rPr>
              <a:t>Налоговые 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9311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ные налоги, установленные на территории Сагуновского сельского посе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алог на имущество физических 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емельный на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Структура налоговых и неналоговых доходов бюджета Сагуновского  сельского поселения  </a:t>
            </a:r>
            <a:br>
              <a:rPr sz="44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на 2023 год, руб. %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4" name="Chart 1" descr=""/>
          <p:cNvPicPr/>
          <p:nvPr/>
        </p:nvPicPr>
        <p:blipFill>
          <a:blip r:embed="rId1"/>
          <a:stretch/>
        </p:blipFill>
        <p:spPr>
          <a:xfrm>
            <a:off x="907920" y="1596960"/>
            <a:ext cx="77914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Структура налоговых и неналоговых доходов бюджета Сагуновского  сельского поселения  </a:t>
            </a:r>
            <a:br>
              <a:rPr sz="44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на 2024 год, руб. %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6" name="Chart 1" descr=""/>
          <p:cNvPicPr/>
          <p:nvPr/>
        </p:nvPicPr>
        <p:blipFill>
          <a:blip r:embed="rId1"/>
          <a:stretch/>
        </p:blipFill>
        <p:spPr>
          <a:xfrm>
            <a:off x="749160" y="1695600"/>
            <a:ext cx="779148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Структура налоговых и неналоговых доходов бюджета Сагуновского сельского поселения  </a:t>
            </a: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на 2025 год, руб. %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8" name="Chart 1" descr=""/>
          <p:cNvPicPr/>
          <p:nvPr/>
        </p:nvPicPr>
        <p:blipFill>
          <a:blip r:embed="rId1"/>
          <a:stretch/>
        </p:blipFill>
        <p:spPr>
          <a:xfrm>
            <a:off x="907920" y="1596960"/>
            <a:ext cx="77914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13:38Z</dcterms:created>
  <dc:creator>trofimova_ey</dc:creator>
  <dc:description/>
  <dc:language>en-US</dc:language>
  <cp:lastModifiedBy>cb-5</cp:lastModifiedBy>
  <cp:lastPrinted>2013-10-03T09:30:52Z</cp:lastPrinted>
  <dcterms:modified xsi:type="dcterms:W3CDTF">2022-11-30T13:44:17Z</dcterms:modified>
  <cp:revision>161</cp:revision>
  <dc:subject/>
  <dc:title>Слайд 1</dc:title>
</cp:coreProperties>
</file>